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F5326-EB3A-487B-9BC5-DC39A7DAC7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245EE-F180-4BB0-9623-6BCB9FC4D7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136A9-CB94-407D-BA2D-F1B80F5FF3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7F3FA-8D00-4D95-9A69-61D97C6385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D1CA76-CF72-422D-A22E-4C691FB42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4E0581-D45C-4C0E-A49D-0C41026B9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AC4BED-A5A2-469D-A90E-95A44AE64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6EEA5F-85D8-441D-B7A4-4870435F6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B9959B-2613-4464-A7E7-926D4924C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4FCF28-B9F2-484F-84A4-A66518D61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C94C80-7C67-42C6-9D5E-95C5400A5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AE20C-25DA-4947-8584-55C038351D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41D572-E5F6-440E-95FD-FCB0093FB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47FE2B-791D-4CF0-8959-F17FE19E5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B1D58D-53FE-474C-AF42-762702780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51E763-2FD3-406C-9949-02CD98193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0D29B7-A6D1-4F3B-A145-E7FD21021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C0673-89B6-4FDF-97C4-16753DC253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8BAA6-BAD0-47D5-B4CB-7DCB9D4BAB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27984-FFFE-4792-B193-E0C8C43235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AE14C-E60B-4721-B6FA-E5C9059169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1205E-B4E4-4AAC-B915-850AC2879C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6C00A-A7D3-4016-916C-6609EAD474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600DC-ACC9-41E1-811D-513609F2A3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1420E-A881-497A-8640-851A65DE561B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BB2F7-7645-4238-829E-89EAD56DD7E1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BCD0E-2AD5-468A-AB6B-14B775ADE6C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E769D-2F7F-42E3-B785-03DBEC8B89D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0040B-5362-4E09-AD70-1215AF34A72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D2004-7412-49E5-B1DB-C17F2635734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9E398-F5C0-4691-B8C0-9D6331C9BF7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6BFAB-73C5-4897-AB86-063ACDEF932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D87D7-265E-4B7C-9D8C-7C707F82E63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0D8CF-297A-4CD9-A2E3-7D13142DD3D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68FFF-FE4E-4BFB-B893-395C51B27F8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47829-7658-4520-BE6D-7D655C3B9B0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F63FF-6CDD-4F72-AE33-7FBE1734F50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FB564-B6FA-46EA-A71F-14EEE198A8B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732D5-0C69-4257-B93A-EF072C844C4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69C39-6D22-407D-9D92-4F2A4E4A769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05T23:33:15Z</dcterms:modified>
  <cp:revision>164</cp:revision>
  <dc:subject/>
  <dc:title>minSpline: An R Package For Minimal Knot Splines</dc:title>
</cp:coreProperties>
</file>